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4.wmf" ContentType="image/x-wmf"/>
  <Override PartName="/ppt/media/image2.png" ContentType="image/png"/>
  <Override PartName="/ppt/media/image3.jpeg" ContentType="image/jpeg"/>
  <Override PartName="/ppt/media/image15.png" ContentType="image/png"/>
  <Override PartName="/ppt/media/image10.png" ContentType="image/pn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</p:sldIdLst>
  <p:sldSz cx="16257588" cy="9144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9804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4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954600" y="0"/>
            <a:ext cx="3024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746280" y="1142640"/>
            <a:ext cx="548784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98040" y="4400280"/>
            <a:ext cx="55832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3024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954600" y="8685360"/>
            <a:ext cx="3024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446F-AEB7-4CCF-9EC7-06711FBFFB8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746280" y="1143000"/>
            <a:ext cx="5487840" cy="308628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8040" y="4400280"/>
            <a:ext cx="55832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54600" y="8685360"/>
            <a:ext cx="3024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EE69-0E23-4FBB-943E-AD00892151C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155600" y="1180800"/>
            <a:ext cx="13932000" cy="676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614520" indent="-46908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7156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12860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139680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165384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165384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165384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155240" y="2603520"/>
            <a:ext cx="680724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9704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832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040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628560" indent="-4647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7640" indent="-4647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20708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08400" indent="-4647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79784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79784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79784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8851680" y="2603520"/>
            <a:ext cx="623556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9704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832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040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1155240" y="2603520"/>
            <a:ext cx="680724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9704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832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040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600480" indent="-45828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5176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10304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136512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161640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161640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161640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5600" y="2781000"/>
            <a:ext cx="139320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marL="92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520" indent="-925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92520" indent="-925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92520" indent="-925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92520" indent="-925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92520" indent="-925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92520" indent="-925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5600" y="6908760"/>
            <a:ext cx="139320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5600" y="6908760"/>
            <a:ext cx="139320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5600" y="1434600"/>
            <a:ext cx="83692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155600" y="4597560"/>
            <a:ext cx="836928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3189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318960" indent="-31896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318960" indent="-31896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318960" indent="-31896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318960" indent="-31896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318960" indent="-31896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318960" indent="-31896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5600" y="1434600"/>
            <a:ext cx="83692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155600" y="4597560"/>
            <a:ext cx="836928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3189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318960" indent="-31896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318960" indent="-31896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318960" indent="-31896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318960" indent="-31896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318960" indent="-31896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318960" indent="-31896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63560" y="241200"/>
            <a:ext cx="1294128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6480" y="-1962000"/>
            <a:ext cx="16255800" cy="1112652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"/>
          <p:cNvSpPr/>
          <p:nvPr/>
        </p:nvSpPr>
        <p:spPr>
          <a:xfrm>
            <a:off x="351000" y="68436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31b1d"/>
                </a:solidFill>
                <a:latin typeface="Gotham Medium"/>
                <a:ea typeface="MS PGothic"/>
              </a:rPr>
              <a:t>The Changing Wealth of Nations 2018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-152280" y="2411280"/>
            <a:ext cx="79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67"/>
                </a:solidFill>
                <a:latin typeface="Gotham Medium"/>
                <a:ea typeface="MS PGothic"/>
              </a:rPr>
              <a:t>Building a Sustainable Futur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351000" y="3708360"/>
            <a:ext cx="11841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utura Condensed"/>
                <a:ea typeface="MS PGothic"/>
              </a:rPr>
              <a:t>Editors: Glenn-Marie Lang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utura Condensed"/>
                <a:ea typeface="MS PGothic"/>
              </a:rPr>
              <a:t>             </a:t>
            </a:r>
            <a:r>
              <a:rPr b="0" lang="en-US" sz="3200" spc="-1" strike="noStrike">
                <a:solidFill>
                  <a:srgbClr val="4d4d4d"/>
                </a:solidFill>
                <a:latin typeface="Futura Condensed"/>
                <a:ea typeface="MS PGothic"/>
              </a:rPr>
              <a:t>Quentin Wod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utura Condensed"/>
                <a:ea typeface="MS PGothic"/>
              </a:rPr>
              <a:t>             </a:t>
            </a:r>
            <a:r>
              <a:rPr b="0" lang="en-US" sz="3200" spc="-1" strike="noStrike">
                <a:solidFill>
                  <a:srgbClr val="4d4d4d"/>
                </a:solidFill>
                <a:latin typeface="Futura Condensed"/>
                <a:ea typeface="MS PGothic"/>
              </a:rPr>
              <a:t>Kevin Care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utura Condensed"/>
                <a:ea typeface="MS PGothic"/>
              </a:rPr>
              <a:t>February 5, 2018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utura Condensed"/>
                <a:ea typeface="MS PGothic"/>
              </a:rPr>
              <a:t>Brookings Institutio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6" name="Picture 7" descr=""/>
          <p:cNvPicPr/>
          <p:nvPr/>
        </p:nvPicPr>
        <p:blipFill>
          <a:blip r:embed="rId2"/>
          <a:stretch/>
        </p:blipFill>
        <p:spPr>
          <a:xfrm>
            <a:off x="351000" y="7427880"/>
            <a:ext cx="5545080" cy="13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4" name="Object 1"/>
          <p:cNvGraphicFramePr/>
          <p:nvPr/>
        </p:nvGraphicFramePr>
        <p:xfrm>
          <a:off x="914400" y="1689120"/>
          <a:ext cx="9169560" cy="70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89120"/>
                    <a:ext cx="9169560" cy="70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Rectangle 2"/>
          <p:cNvSpPr/>
          <p:nvPr/>
        </p:nvSpPr>
        <p:spPr>
          <a:xfrm>
            <a:off x="12050640" y="0"/>
            <a:ext cx="4205520" cy="9144000"/>
          </a:xfrm>
          <a:prstGeom prst="rect">
            <a:avLst/>
          </a:prstGeom>
          <a:solidFill>
            <a:srgbClr val="398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AutoShape 3"/>
          <p:cNvSpPr/>
          <p:nvPr/>
        </p:nvSpPr>
        <p:spPr>
          <a:xfrm flipH="1">
            <a:off x="9447120" y="0"/>
            <a:ext cx="2641680" cy="9144000"/>
          </a:xfrm>
          <a:prstGeom prst="rtTriangle">
            <a:avLst/>
          </a:prstGeom>
          <a:solidFill>
            <a:srgbClr val="398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11866680" y="3130560"/>
            <a:ext cx="416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Human Capital rapidly increases as economies grow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1914840" y="7423200"/>
            <a:ext cx="10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Low income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3529080" y="7391520"/>
            <a:ext cx="15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Lower Middle income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5232240" y="7385040"/>
            <a:ext cx="15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Upper Middle income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Rectangle 8"/>
          <p:cNvSpPr/>
          <p:nvPr/>
        </p:nvSpPr>
        <p:spPr>
          <a:xfrm>
            <a:off x="7074000" y="7385040"/>
            <a:ext cx="15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High income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OECD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657360" y="996840"/>
            <a:ext cx="9664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76d"/>
                </a:solidFill>
                <a:latin typeface="Gotham Medium"/>
                <a:ea typeface="MS PGothic"/>
              </a:rPr>
              <a:t>Human Capital: Share vs Per Capita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Object 1"/>
          <p:cNvGraphicFramePr/>
          <p:nvPr/>
        </p:nvGraphicFramePr>
        <p:xfrm>
          <a:off x="5648400" y="3048120"/>
          <a:ext cx="849636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48400" y="3048120"/>
                    <a:ext cx="849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6" name="Rectangle 2"/>
          <p:cNvSpPr/>
          <p:nvPr/>
        </p:nvSpPr>
        <p:spPr>
          <a:xfrm>
            <a:off x="-152280" y="-50760"/>
            <a:ext cx="3555720" cy="9194760"/>
          </a:xfrm>
          <a:prstGeom prst="rect">
            <a:avLst/>
          </a:prstGeom>
          <a:solidFill>
            <a:srgbClr val="da4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AutoShape 3"/>
          <p:cNvSpPr/>
          <p:nvPr/>
        </p:nvSpPr>
        <p:spPr>
          <a:xfrm flipH="1" rot="10800000">
            <a:off x="3389400" y="-51120"/>
            <a:ext cx="2590920" cy="9194760"/>
          </a:xfrm>
          <a:prstGeom prst="rtTriangle">
            <a:avLst/>
          </a:prstGeom>
          <a:solidFill>
            <a:srgbClr val="da4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415800" y="1587600"/>
            <a:ext cx="396252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Women account for less than 40% of human capital.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Gender equality could generate large gai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6105600" y="1619280"/>
            <a:ext cx="9410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76d"/>
                </a:solidFill>
                <a:latin typeface="Gotham Medium"/>
                <a:ea typeface="MS PGothic"/>
              </a:rPr>
              <a:t>Gains in Human Capital from Gender Equalit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30" name="Object 6"/>
          <p:cNvGraphicFramePr/>
          <p:nvPr/>
        </p:nvGraphicFramePr>
        <p:xfrm>
          <a:off x="6172200" y="6070680"/>
          <a:ext cx="8102520" cy="264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6070680"/>
                    <a:ext cx="810252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Rectangle 7"/>
          <p:cNvSpPr/>
          <p:nvPr/>
        </p:nvSpPr>
        <p:spPr>
          <a:xfrm>
            <a:off x="8864640" y="7886880"/>
            <a:ext cx="2387520" cy="342720"/>
          </a:xfrm>
          <a:prstGeom prst="rect">
            <a:avLst/>
          </a:prstGeom>
          <a:solidFill>
            <a:srgbClr val="ecc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1" descr=""/>
          <p:cNvPicPr/>
          <p:nvPr/>
        </p:nvPicPr>
        <p:blipFill>
          <a:blip r:embed="rId1"/>
          <a:stretch/>
        </p:blipFill>
        <p:spPr>
          <a:xfrm>
            <a:off x="-590400" y="-176040"/>
            <a:ext cx="18122760" cy="9356400"/>
          </a:xfrm>
          <a:prstGeom prst="rect">
            <a:avLst/>
          </a:prstGeom>
          <a:ln w="0">
            <a:noFill/>
          </a:ln>
        </p:spPr>
      </p:pic>
      <p:sp>
        <p:nvSpPr>
          <p:cNvPr id="634" name="Rectangle 2"/>
          <p:cNvSpPr/>
          <p:nvPr/>
        </p:nvSpPr>
        <p:spPr>
          <a:xfrm>
            <a:off x="1216080" y="2268360"/>
            <a:ext cx="14184360" cy="62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397160" indent="-470160">
              <a:lnSpc>
                <a:spcPct val="100000"/>
              </a:lnSpc>
              <a:buClr>
                <a:srgbClr val="3e457d"/>
              </a:buClr>
              <a:buSzPct val="125000"/>
              <a:buFont typeface="Gotham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1397160" indent="-470160">
              <a:lnSpc>
                <a:spcPct val="100000"/>
              </a:lnSpc>
              <a:buClr>
                <a:srgbClr val="3e457d"/>
              </a:buClr>
              <a:buSzPct val="125000"/>
              <a:buFont typeface="Gotham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457d"/>
                </a:solidFill>
                <a:latin typeface="Gotham Medium"/>
                <a:ea typeface="Gotham Medium"/>
              </a:rPr>
              <a:t>Global wealth increased by 66% in 20 year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1397160" indent="-470160">
              <a:lnSpc>
                <a:spcPct val="100000"/>
              </a:lnSpc>
              <a:buClr>
                <a:srgbClr val="3e457d"/>
              </a:buClr>
              <a:buSzPct val="125000"/>
              <a:buFont typeface="Gotham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457d"/>
                </a:solidFill>
                <a:latin typeface="Gotham Medium"/>
                <a:ea typeface="Gotham Medium"/>
              </a:rPr>
              <a:t>Middle income countries’ share has risen; beginning to close the gap with high income countri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1397160" indent="-470160">
              <a:lnSpc>
                <a:spcPct val="100000"/>
              </a:lnSpc>
              <a:buClr>
                <a:srgbClr val="3e457d"/>
              </a:buClr>
              <a:buSzPct val="125000"/>
              <a:buFont typeface="Gotham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457d"/>
                </a:solidFill>
                <a:latin typeface="Gotham Medium"/>
                <a:ea typeface="Gotham Medium"/>
              </a:rPr>
              <a:t>Per capita wealth increased by 30%, but 25 countries saw stagnation or a declin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1397160" indent="-470160">
              <a:lnSpc>
                <a:spcPct val="100000"/>
              </a:lnSpc>
              <a:buClr>
                <a:srgbClr val="3e457d"/>
              </a:buClr>
              <a:buSzPct val="125000"/>
              <a:buFont typeface="Gotham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457d"/>
                </a:solidFill>
                <a:latin typeface="Gotham Medium"/>
                <a:ea typeface="Gotham Medium"/>
              </a:rPr>
              <a:t>Natural capital, if managed wisely and rents invested properly, is a driver of sustainable growt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1397160" indent="-470160">
              <a:lnSpc>
                <a:spcPct val="100000"/>
              </a:lnSpc>
              <a:buClr>
                <a:srgbClr val="3e457d"/>
              </a:buClr>
              <a:buSzPct val="125000"/>
              <a:buFont typeface="Gotham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457d"/>
                </a:solidFill>
                <a:latin typeface="Gotham Medium"/>
                <a:ea typeface="Gotham Medium"/>
              </a:rPr>
              <a:t>Human capital is the biggest component of wealt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1397160" indent="-470160">
              <a:lnSpc>
                <a:spcPct val="100000"/>
              </a:lnSpc>
              <a:buClr>
                <a:srgbClr val="3e457d"/>
              </a:buClr>
              <a:buSzPct val="125000"/>
              <a:buFont typeface="Gotham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e457d"/>
                </a:solidFill>
                <a:latin typeface="Gotham Medium"/>
                <a:ea typeface="Gotham Medium"/>
              </a:rPr>
              <a:t>The composition of wealth changes with economic development; managing wealth as a portfolio of assets is critica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1397160" indent="-470160">
              <a:lnSpc>
                <a:spcPct val="100000"/>
              </a:lnSpc>
              <a:buClr>
                <a:srgbClr val="3e457d"/>
              </a:buClr>
              <a:buSzPct val="125000"/>
              <a:buFont typeface="Gotham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1397160" indent="-470160">
              <a:lnSpc>
                <a:spcPct val="100000"/>
              </a:lnSpc>
              <a:buClr>
                <a:srgbClr val="3e457d"/>
              </a:buClr>
              <a:buSzPct val="125000"/>
              <a:buFont typeface="Gotham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Rectangle 3"/>
          <p:cNvSpPr/>
          <p:nvPr/>
        </p:nvSpPr>
        <p:spPr>
          <a:xfrm>
            <a:off x="4602240" y="1050480"/>
            <a:ext cx="69562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a4a33"/>
                </a:solidFill>
                <a:latin typeface="Gotham Medium"/>
                <a:ea typeface="MS PGothic"/>
              </a:rPr>
              <a:t>What Have We Learned?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AutoShape 4"/>
          <p:cNvSpPr/>
          <p:nvPr/>
        </p:nvSpPr>
        <p:spPr>
          <a:xfrm flipH="1">
            <a:off x="-127080" y="8585280"/>
            <a:ext cx="17543520" cy="558720"/>
          </a:xfrm>
          <a:prstGeom prst="rtTriangle">
            <a:avLst/>
          </a:prstGeom>
          <a:solidFill>
            <a:srgbClr val="f0ac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1" descr=""/>
          <p:cNvPicPr/>
          <p:nvPr/>
        </p:nvPicPr>
        <p:blipFill>
          <a:blip r:embed="rId1"/>
          <a:stretch/>
        </p:blipFill>
        <p:spPr>
          <a:xfrm>
            <a:off x="8953560" y="5626080"/>
            <a:ext cx="2260440" cy="17146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75000"/>
              </a:srgbClr>
            </a:outerShdw>
          </a:effectLst>
        </p:spPr>
      </p:pic>
      <p:grpSp>
        <p:nvGrpSpPr>
          <p:cNvPr id="638" name="Group 4"/>
          <p:cNvGrpSpPr/>
          <p:nvPr/>
        </p:nvGrpSpPr>
        <p:grpSpPr>
          <a:xfrm>
            <a:off x="5835600" y="5626080"/>
            <a:ext cx="1600200" cy="1700640"/>
            <a:chOff x="5835600" y="5626080"/>
            <a:chExt cx="1600200" cy="1700640"/>
          </a:xfrm>
        </p:grpSpPr>
        <p:pic>
          <p:nvPicPr>
            <p:cNvPr id="639" name="Picture 2" descr=""/>
            <p:cNvPicPr/>
            <p:nvPr/>
          </p:nvPicPr>
          <p:blipFill>
            <a:blip r:embed="rId2"/>
            <a:srcRect l="8110" t="6402" r="16482" b="30782"/>
            <a:stretch/>
          </p:blipFill>
          <p:spPr>
            <a:xfrm>
              <a:off x="5835600" y="5626080"/>
              <a:ext cx="1600200" cy="1244520"/>
            </a:xfrm>
            <a:prstGeom prst="rect">
              <a:avLst/>
            </a:prstGeom>
            <a:ln w="0">
              <a:noFill/>
            </a:ln>
            <a:effectLst>
              <a:outerShdw dist="12727" dir="2700000" blurRad="0" rotWithShape="0">
                <a:srgbClr val="000000">
                  <a:alpha val="73000"/>
                </a:srgbClr>
              </a:outerShdw>
            </a:effectLst>
          </p:spPr>
        </p:pic>
        <p:sp>
          <p:nvSpPr>
            <p:cNvPr id="640" name="Rectangle 3"/>
            <p:cNvSpPr/>
            <p:nvPr/>
          </p:nvSpPr>
          <p:spPr>
            <a:xfrm>
              <a:off x="6144840" y="6960600"/>
              <a:ext cx="999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5376d"/>
                  </a:solidFill>
                  <a:latin typeface="Gotham Medium"/>
                  <a:ea typeface="MS PGothic"/>
                </a:rPr>
                <a:t>WAV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641" name="Picture 5" descr=""/>
          <p:cNvPicPr/>
          <p:nvPr/>
        </p:nvPicPr>
        <p:blipFill>
          <a:blip r:embed="rId3"/>
          <a:stretch/>
        </p:blipFill>
        <p:spPr>
          <a:xfrm>
            <a:off x="5688000" y="2881440"/>
            <a:ext cx="485928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AutoShape 1"/>
          <p:cNvSpPr/>
          <p:nvPr/>
        </p:nvSpPr>
        <p:spPr>
          <a:xfrm>
            <a:off x="5551560" y="974880"/>
            <a:ext cx="9664560" cy="1574640"/>
          </a:xfrm>
          <a:prstGeom prst="roundRect">
            <a:avLst>
              <a:gd name="adj" fmla="val 1209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AutoShape 2"/>
          <p:cNvSpPr/>
          <p:nvPr/>
        </p:nvSpPr>
        <p:spPr>
          <a:xfrm>
            <a:off x="4815000" y="4203720"/>
            <a:ext cx="10869480" cy="698400"/>
          </a:xfrm>
          <a:prstGeom prst="roundRect">
            <a:avLst>
              <a:gd name="adj" fmla="val 27269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tham Medium"/>
                <a:ea typeface="MS PGothic"/>
              </a:rPr>
              <a:t>Total Weal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5897520" y="1251000"/>
            <a:ext cx="88520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Long Term Prosperity and Well-Bei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AutoShape 4"/>
          <p:cNvSpPr/>
          <p:nvPr/>
        </p:nvSpPr>
        <p:spPr>
          <a:xfrm>
            <a:off x="4973760" y="3003480"/>
            <a:ext cx="10642320" cy="787320"/>
          </a:xfrm>
          <a:prstGeom prst="roundRect">
            <a:avLst>
              <a:gd name="adj" fmla="val 2419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7696080" y="3203640"/>
            <a:ext cx="50626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tham Medium"/>
                <a:ea typeface="MS PGothic"/>
              </a:rPr>
              <a:t>National Income / GDP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AutoShape 6"/>
          <p:cNvSpPr/>
          <p:nvPr/>
        </p:nvSpPr>
        <p:spPr>
          <a:xfrm>
            <a:off x="4815000" y="5002200"/>
            <a:ext cx="2452680" cy="1685880"/>
          </a:xfrm>
          <a:prstGeom prst="roundRect">
            <a:avLst>
              <a:gd name="adj" fmla="val 11292"/>
            </a:avLst>
          </a:prstGeom>
          <a:solidFill>
            <a:srgbClr val="153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tham Medium"/>
                <a:ea typeface="MS PGothic"/>
              </a:rPr>
              <a:t>Produc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tham Medium"/>
                <a:ea typeface="MS PGothic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AutoShape 7"/>
          <p:cNvSpPr/>
          <p:nvPr/>
        </p:nvSpPr>
        <p:spPr>
          <a:xfrm>
            <a:off x="4815000" y="6818400"/>
            <a:ext cx="1382760" cy="1280880"/>
          </a:xfrm>
          <a:prstGeom prst="roundRect">
            <a:avLst>
              <a:gd name="adj" fmla="val 14866"/>
            </a:avLst>
          </a:prstGeom>
          <a:solidFill>
            <a:srgbClr val="398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tham Medium"/>
                <a:ea typeface="MS PGothic"/>
              </a:rPr>
              <a:t>Machiner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tham Medium"/>
                <a:ea typeface="MS PGothic"/>
              </a:rPr>
              <a:t>Equipmen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tham Medium"/>
                <a:ea typeface="MS PGothic"/>
              </a:rPr>
              <a:t>Struc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AutoShape 8"/>
          <p:cNvSpPr/>
          <p:nvPr/>
        </p:nvSpPr>
        <p:spPr>
          <a:xfrm>
            <a:off x="6256440" y="6804000"/>
            <a:ext cx="968400" cy="1281240"/>
          </a:xfrm>
          <a:custGeom>
            <a:avLst/>
            <a:gdLst>
              <a:gd name="textAreaLeft" fmla="*/ 61200 w 968400"/>
              <a:gd name="textAreaRight" fmla="*/ 907200 w 968400"/>
              <a:gd name="textAreaTop" fmla="*/ 61200 h 1281240"/>
              <a:gd name="textAreaBottom" fmla="*/ 1220040 h 1281240"/>
            </a:gdLst>
            <a:ahLst/>
            <a:rect l="textAreaLeft" t="textAreaTop" r="textAreaRight" b="textAreaBottom"/>
            <a:pathLst>
              <a:path w="21600" h="28575">
                <a:moveTo>
                  <a:pt x="4679" y="0"/>
                </a:moveTo>
                <a:arcTo wR="4679" hR="4679" stAng="16200000" swAng="-5400000"/>
                <a:lnTo>
                  <a:pt x="0" y="23896"/>
                </a:lnTo>
                <a:arcTo wR="4679" hR="4679" stAng="10800000" swAng="-5400000"/>
                <a:lnTo>
                  <a:pt x="16921" y="28575"/>
                </a:lnTo>
                <a:arcTo wR="4679" hR="4679" stAng="5400000" swAng="-5400000"/>
                <a:lnTo>
                  <a:pt x="21600" y="4679"/>
                </a:lnTo>
                <a:arcTo wR="4679" hR="4679" stAng="0" swAng="-5400000"/>
                <a:close/>
              </a:path>
            </a:pathLst>
          </a:custGeom>
          <a:solidFill>
            <a:srgbClr val="398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tham Medium"/>
                <a:ea typeface="MS PGothic"/>
              </a:rPr>
              <a:t>Urba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tham Medium"/>
                <a:ea typeface="MS PGothic"/>
              </a:rPr>
              <a:t>Lan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AutoShape 9"/>
          <p:cNvSpPr/>
          <p:nvPr/>
        </p:nvSpPr>
        <p:spPr>
          <a:xfrm>
            <a:off x="7335720" y="5002200"/>
            <a:ext cx="5040360" cy="1685880"/>
          </a:xfrm>
          <a:prstGeom prst="roundRect">
            <a:avLst>
              <a:gd name="adj" fmla="val 11292"/>
            </a:avLst>
          </a:prstGeom>
          <a:solidFill>
            <a:srgbClr val="307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tham Medium"/>
                <a:ea typeface="MS PGothic"/>
              </a:rPr>
              <a:t>Natur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tham Medium"/>
                <a:ea typeface="MS PGothic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AutoShape 10"/>
          <p:cNvSpPr/>
          <p:nvPr/>
        </p:nvSpPr>
        <p:spPr>
          <a:xfrm>
            <a:off x="7335720" y="6818400"/>
            <a:ext cx="1104840" cy="1280880"/>
          </a:xfrm>
          <a:custGeom>
            <a:avLst/>
            <a:gdLst>
              <a:gd name="textAreaLeft" fmla="*/ 61200 w 1104840"/>
              <a:gd name="textAreaRight" fmla="*/ 1043640 w 1104840"/>
              <a:gd name="textAreaTop" fmla="*/ 61200 h 1280880"/>
              <a:gd name="textAreaBottom" fmla="*/ 1219680 h 1280880"/>
            </a:gdLst>
            <a:ahLst/>
            <a:rect l="textAreaLeft" t="textAreaTop" r="textAreaRight" b="textAreaBottom"/>
            <a:pathLst>
              <a:path w="21600" h="25041">
                <a:moveTo>
                  <a:pt x="4088" y="0"/>
                </a:moveTo>
                <a:arcTo wR="4088" hR="4088" stAng="16200000" swAng="-5400000"/>
                <a:lnTo>
                  <a:pt x="0" y="20953"/>
                </a:lnTo>
                <a:arcTo wR="4088" hR="4088" stAng="10800000" swAng="-5400000"/>
                <a:lnTo>
                  <a:pt x="17512" y="25041"/>
                </a:lnTo>
                <a:arcTo wR="4088" hR="4088" stAng="5400000" swAng="-5400000"/>
                <a:lnTo>
                  <a:pt x="21600" y="4088"/>
                </a:lnTo>
                <a:arcTo wR="4088" hR="4088" stAng="0" swAng="-5400000"/>
                <a:close/>
              </a:path>
            </a:pathLst>
          </a:custGeom>
          <a:solidFill>
            <a:srgbClr val="47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tham Medium"/>
                <a:ea typeface="MS PGothic"/>
              </a:rPr>
              <a:t>Energy/Mineral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AutoShape 11"/>
          <p:cNvSpPr/>
          <p:nvPr/>
        </p:nvSpPr>
        <p:spPr>
          <a:xfrm>
            <a:off x="8488440" y="6818400"/>
            <a:ext cx="1511280" cy="1280880"/>
          </a:xfrm>
          <a:prstGeom prst="roundRect">
            <a:avLst>
              <a:gd name="adj" fmla="val 14866"/>
            </a:avLst>
          </a:prstGeom>
          <a:solidFill>
            <a:srgbClr val="47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tham Medium"/>
                <a:ea typeface="MS PGothic"/>
              </a:rPr>
              <a:t>Agricultura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tham Medium"/>
                <a:ea typeface="MS PGothic"/>
              </a:rPr>
              <a:t>Lan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AutoShape 12"/>
          <p:cNvSpPr/>
          <p:nvPr/>
        </p:nvSpPr>
        <p:spPr>
          <a:xfrm>
            <a:off x="10029960" y="6804000"/>
            <a:ext cx="977760" cy="1282680"/>
          </a:xfrm>
          <a:custGeom>
            <a:avLst/>
            <a:gdLst>
              <a:gd name="textAreaLeft" fmla="*/ 55440 w 977760"/>
              <a:gd name="textAreaRight" fmla="*/ 922320 w 977760"/>
              <a:gd name="textAreaTop" fmla="*/ 55440 h 1282680"/>
              <a:gd name="textAreaBottom" fmla="*/ 1227240 h 1282680"/>
            </a:gdLst>
            <a:ahLst/>
            <a:rect l="textAreaLeft" t="textAreaTop" r="textAreaRight" b="textAreaBottom"/>
            <a:pathLst>
              <a:path w="21600" h="28334">
                <a:moveTo>
                  <a:pt x="4207" y="0"/>
                </a:moveTo>
                <a:arcTo wR="4207" hR="4207" stAng="16200000" swAng="-5400000"/>
                <a:lnTo>
                  <a:pt x="0" y="24127"/>
                </a:lnTo>
                <a:arcTo wR="4207" hR="4207" stAng="10800000" swAng="-5400000"/>
                <a:lnTo>
                  <a:pt x="17393" y="28334"/>
                </a:lnTo>
                <a:arcTo wR="4207" hR="4207" stAng="5400000" swAng="-5400000"/>
                <a:lnTo>
                  <a:pt x="21600" y="4207"/>
                </a:lnTo>
                <a:arcTo wR="4207" hR="4207" stAng="0" swAng="-5400000"/>
                <a:close/>
              </a:path>
            </a:pathLst>
          </a:custGeom>
          <a:solidFill>
            <a:srgbClr val="47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tham Medium"/>
                <a:ea typeface="MS PGothic"/>
              </a:rPr>
              <a:t>Forest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AutoShape 13"/>
          <p:cNvSpPr/>
          <p:nvPr/>
        </p:nvSpPr>
        <p:spPr>
          <a:xfrm>
            <a:off x="11080800" y="6791400"/>
            <a:ext cx="1299960" cy="1282680"/>
          </a:xfrm>
          <a:prstGeom prst="roundRect">
            <a:avLst>
              <a:gd name="adj" fmla="val 15306"/>
            </a:avLst>
          </a:prstGeom>
          <a:solidFill>
            <a:srgbClr val="47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tham Medium"/>
                <a:ea typeface="MS PGothic"/>
              </a:rPr>
              <a:t>Protect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tham Medium"/>
                <a:ea typeface="MS PGothic"/>
              </a:rPr>
              <a:t>Area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AutoShape 14"/>
          <p:cNvSpPr/>
          <p:nvPr/>
        </p:nvSpPr>
        <p:spPr>
          <a:xfrm>
            <a:off x="12453840" y="5002200"/>
            <a:ext cx="1866960" cy="1685880"/>
          </a:xfrm>
          <a:prstGeom prst="roundRect">
            <a:avLst>
              <a:gd name="adj" fmla="val 11292"/>
            </a:avLst>
          </a:prstGeom>
          <a:solidFill>
            <a:srgbClr val="a31b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tham Medium"/>
                <a:ea typeface="MS PGothic"/>
              </a:rPr>
              <a:t>Huma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tham Medium"/>
                <a:ea typeface="MS PGothic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AutoShape 15"/>
          <p:cNvSpPr/>
          <p:nvPr/>
        </p:nvSpPr>
        <p:spPr>
          <a:xfrm>
            <a:off x="14351040" y="5002200"/>
            <a:ext cx="1328760" cy="1685880"/>
          </a:xfrm>
          <a:custGeom>
            <a:avLst/>
            <a:gdLst>
              <a:gd name="textAreaLeft" fmla="*/ 55440 w 1328760"/>
              <a:gd name="textAreaRight" fmla="*/ 1273320 w 1328760"/>
              <a:gd name="textAreaTop" fmla="*/ 55440 h 1685880"/>
              <a:gd name="textAreaBottom" fmla="*/ 1630440 h 1685880"/>
            </a:gdLst>
            <a:ahLst/>
            <a:rect l="textAreaLeft" t="textAreaTop" r="textAreaRight" b="textAreaBottom"/>
            <a:pathLst>
              <a:path w="21600" h="27404">
                <a:moveTo>
                  <a:pt x="3096" y="0"/>
                </a:moveTo>
                <a:arcTo wR="3096" hR="3096" stAng="16200000" swAng="-5400000"/>
                <a:lnTo>
                  <a:pt x="0" y="24308"/>
                </a:lnTo>
                <a:arcTo wR="3096" hR="3096" stAng="10800000" swAng="-5400000"/>
                <a:lnTo>
                  <a:pt x="18504" y="27404"/>
                </a:lnTo>
                <a:arcTo wR="3096" hR="3096" stAng="5400000" swAng="-5400000"/>
                <a:lnTo>
                  <a:pt x="21600" y="3096"/>
                </a:lnTo>
                <a:arcTo wR="3096" hR="3096" stAng="0" swAng="-5400000"/>
                <a:close/>
              </a:path>
            </a:pathLst>
          </a:custGeom>
          <a:solidFill>
            <a:srgbClr val="4a52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tham Medium"/>
                <a:ea typeface="MS PGothic"/>
              </a:rPr>
              <a:t>Ne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tham Medium"/>
                <a:ea typeface="MS PGothic"/>
              </a:rPr>
              <a:t>Foreig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tham Medium"/>
                <a:ea typeface="MS PGothic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AutoShape 16"/>
          <p:cNvSpPr/>
          <p:nvPr/>
        </p:nvSpPr>
        <p:spPr>
          <a:xfrm>
            <a:off x="12455640" y="6792840"/>
            <a:ext cx="1865160" cy="1281240"/>
          </a:xfrm>
          <a:prstGeom prst="roundRect">
            <a:avLst>
              <a:gd name="adj" fmla="val 14866"/>
            </a:avLst>
          </a:prstGeom>
          <a:solidFill>
            <a:srgbClr val="db2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tham Medium"/>
                <a:ea typeface="MS PGothic"/>
              </a:rPr>
              <a:t>Male/Female and Employed /Self-employ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AutoShape 17"/>
          <p:cNvSpPr/>
          <p:nvPr/>
        </p:nvSpPr>
        <p:spPr>
          <a:xfrm>
            <a:off x="14379480" y="6792840"/>
            <a:ext cx="1328760" cy="1281240"/>
          </a:xfrm>
          <a:prstGeom prst="roundRect">
            <a:avLst>
              <a:gd name="adj" fmla="val 14866"/>
            </a:avLst>
          </a:prstGeom>
          <a:solidFill>
            <a:srgbClr val="797a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tham Medium"/>
                <a:ea typeface="MS PGothic"/>
              </a:rPr>
              <a:t>Total Assets- Total Liabiliti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AutoShape 18"/>
          <p:cNvSpPr/>
          <p:nvPr/>
        </p:nvSpPr>
        <p:spPr>
          <a:xfrm>
            <a:off x="9963000" y="3790800"/>
            <a:ext cx="519120" cy="419400"/>
          </a:xfrm>
          <a:prstGeom prst="triangle">
            <a:avLst>
              <a:gd name="adj" fmla="val 500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AutoShape 19"/>
          <p:cNvSpPr/>
          <p:nvPr/>
        </p:nvSpPr>
        <p:spPr>
          <a:xfrm>
            <a:off x="9963000" y="2585880"/>
            <a:ext cx="519120" cy="41760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20"/>
          <p:cNvSpPr/>
          <p:nvPr/>
        </p:nvSpPr>
        <p:spPr>
          <a:xfrm>
            <a:off x="0" y="0"/>
            <a:ext cx="3341520" cy="9144000"/>
          </a:xfrm>
          <a:prstGeom prst="rect">
            <a:avLst/>
          </a:prstGeom>
          <a:solidFill>
            <a:srgbClr val="da4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AutoShape 21"/>
          <p:cNvSpPr/>
          <p:nvPr/>
        </p:nvSpPr>
        <p:spPr>
          <a:xfrm flipH="1" rot="10800000">
            <a:off x="3303360" y="0"/>
            <a:ext cx="2466720" cy="9144000"/>
          </a:xfrm>
          <a:prstGeom prst="rtTriangle">
            <a:avLst/>
          </a:prstGeom>
          <a:solidFill>
            <a:srgbClr val="da4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22"/>
          <p:cNvSpPr/>
          <p:nvPr/>
        </p:nvSpPr>
        <p:spPr>
          <a:xfrm>
            <a:off x="206280" y="1042920"/>
            <a:ext cx="3889440" cy="63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Book"/>
                <a:ea typeface="MS PGothic"/>
              </a:rPr>
              <a:t>The World Bank has developed wealth as an indicator of sustainability for two decad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Book"/>
                <a:ea typeface="MS PGothic"/>
              </a:rPr>
              <a:t>This book tracks wealth i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141 countries, from 1995 to 2014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1"/>
          <p:cNvSpPr/>
          <p:nvPr/>
        </p:nvSpPr>
        <p:spPr>
          <a:xfrm>
            <a:off x="219240" y="1492200"/>
            <a:ext cx="10578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76d"/>
                </a:solidFill>
                <a:latin typeface="Gotham Medium"/>
                <a:ea typeface="MS PGothic"/>
              </a:rPr>
              <a:t>Global Wealth by Income Group 1995 to 20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11138040" y="0"/>
            <a:ext cx="5207040" cy="9144000"/>
          </a:xfrm>
          <a:prstGeom prst="rect">
            <a:avLst/>
          </a:prstGeom>
          <a:solidFill>
            <a:srgbClr val="44a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AutoShape 4"/>
          <p:cNvSpPr/>
          <p:nvPr/>
        </p:nvSpPr>
        <p:spPr>
          <a:xfrm flipH="1">
            <a:off x="8588520" y="-71280"/>
            <a:ext cx="2590560" cy="9215280"/>
          </a:xfrm>
          <a:prstGeom prst="rtTriangle">
            <a:avLst/>
          </a:prstGeom>
          <a:solidFill>
            <a:srgbClr val="44a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11518920" y="1555920"/>
            <a:ext cx="42163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Global wealth grew </a:t>
            </a:r>
            <a:r>
              <a:rPr b="0" lang="en-US" sz="3600" spc="-1" strike="noStrike">
                <a:solidFill>
                  <a:srgbClr val="f3eb00"/>
                </a:solidFill>
                <a:latin typeface="Gotham Medium"/>
                <a:ea typeface="MS PGothic"/>
              </a:rPr>
              <a:t>66%</a:t>
            </a: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 between 1995 and 2014, from $690 trillion to $1,143 trillion with increasing convergence between middle-income and high-income countri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3" name="Picture 1" descr=""/>
          <p:cNvPicPr/>
          <p:nvPr/>
        </p:nvPicPr>
        <p:blipFill>
          <a:blip r:embed="rId1"/>
          <a:stretch/>
        </p:blipFill>
        <p:spPr>
          <a:xfrm>
            <a:off x="1359000" y="0"/>
            <a:ext cx="6603840" cy="873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5661000" y="395280"/>
            <a:ext cx="1009980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76d"/>
                </a:solidFill>
                <a:latin typeface="Gotham Medium"/>
                <a:ea typeface="MS PGothic"/>
              </a:rPr>
              <a:t>Growth in Total Wealth and Per Capita Wealth, 1995 to 20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Rectangle 10"/>
          <p:cNvSpPr/>
          <p:nvPr/>
        </p:nvSpPr>
        <p:spPr>
          <a:xfrm>
            <a:off x="-76320" y="-15840"/>
            <a:ext cx="3327480" cy="9159840"/>
          </a:xfrm>
          <a:prstGeom prst="rect">
            <a:avLst/>
          </a:prstGeom>
          <a:solidFill>
            <a:srgbClr val="da4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AutoShape 11"/>
          <p:cNvSpPr/>
          <p:nvPr/>
        </p:nvSpPr>
        <p:spPr>
          <a:xfrm flipH="1" rot="10800000">
            <a:off x="3230640" y="0"/>
            <a:ext cx="2546280" cy="9144000"/>
          </a:xfrm>
          <a:prstGeom prst="rtTriangle">
            <a:avLst/>
          </a:prstGeom>
          <a:solidFill>
            <a:srgbClr val="da4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507960" y="1143000"/>
            <a:ext cx="377208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Population growth impacts per capita wealth, especially in low- and middle-income countri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8" name="Picture 1" descr=""/>
          <p:cNvPicPr/>
          <p:nvPr/>
        </p:nvPicPr>
        <p:blipFill>
          <a:blip r:embed="rId1"/>
          <a:stretch/>
        </p:blipFill>
        <p:spPr>
          <a:xfrm>
            <a:off x="5680080" y="2124000"/>
            <a:ext cx="9779040" cy="614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1"/>
          <p:cNvSpPr/>
          <p:nvPr/>
        </p:nvSpPr>
        <p:spPr>
          <a:xfrm>
            <a:off x="941400" y="395280"/>
            <a:ext cx="900432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76d"/>
                </a:solidFill>
                <a:latin typeface="Gotham Medium"/>
                <a:ea typeface="MS PGothic"/>
              </a:rPr>
              <a:t>Per Capita Wealth in 2014 by Income Group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70" name="Object 2"/>
          <p:cNvGraphicFramePr/>
          <p:nvPr/>
        </p:nvGraphicFramePr>
        <p:xfrm>
          <a:off x="901800" y="1828800"/>
          <a:ext cx="7772400" cy="57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1828800"/>
                    <a:ext cx="777240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Rectangle 3"/>
          <p:cNvSpPr/>
          <p:nvPr/>
        </p:nvSpPr>
        <p:spPr>
          <a:xfrm>
            <a:off x="11138040" y="0"/>
            <a:ext cx="5207040" cy="9182160"/>
          </a:xfrm>
          <a:prstGeom prst="rect">
            <a:avLst/>
          </a:prstGeom>
          <a:solidFill>
            <a:srgbClr val="44a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AutoShape 4"/>
          <p:cNvSpPr/>
          <p:nvPr/>
        </p:nvSpPr>
        <p:spPr>
          <a:xfrm flipH="1">
            <a:off x="8559000" y="0"/>
            <a:ext cx="2590920" cy="9182160"/>
          </a:xfrm>
          <a:prstGeom prst="rtTriangle">
            <a:avLst/>
          </a:prstGeom>
          <a:solidFill>
            <a:srgbClr val="44a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11138040" y="1460520"/>
            <a:ext cx="450828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Despite gains in middle-income countries, inequality persists. Per capita wealth in high-income OECD countries is </a:t>
            </a:r>
            <a:r>
              <a:rPr b="0" lang="en-US" sz="3600" spc="-1" strike="noStrike">
                <a:solidFill>
                  <a:srgbClr val="fff959"/>
                </a:solidFill>
                <a:latin typeface="Gotham Medium"/>
                <a:ea typeface="MS PGothic"/>
              </a:rPr>
              <a:t>52 times</a:t>
            </a: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 that of low-income countries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1013400" y="7677000"/>
            <a:ext cx="10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Low income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2055960" y="7645320"/>
            <a:ext cx="15620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Lower Middle income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Rectangle 8"/>
          <p:cNvSpPr/>
          <p:nvPr/>
        </p:nvSpPr>
        <p:spPr>
          <a:xfrm>
            <a:off x="3390840" y="7639200"/>
            <a:ext cx="15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Upper Middle income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Rectangle 9"/>
          <p:cNvSpPr/>
          <p:nvPr/>
        </p:nvSpPr>
        <p:spPr>
          <a:xfrm>
            <a:off x="4660920" y="7639200"/>
            <a:ext cx="15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High income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non-OECD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Rectangle 10"/>
          <p:cNvSpPr/>
          <p:nvPr/>
        </p:nvSpPr>
        <p:spPr>
          <a:xfrm>
            <a:off x="6095880" y="7639200"/>
            <a:ext cx="15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High income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OECD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Rectangle 11"/>
          <p:cNvSpPr/>
          <p:nvPr/>
        </p:nvSpPr>
        <p:spPr>
          <a:xfrm>
            <a:off x="7581960" y="7639200"/>
            <a:ext cx="85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World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2211480" y="539640"/>
            <a:ext cx="7861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76d"/>
                </a:solidFill>
                <a:latin typeface="Gotham Medium"/>
                <a:ea typeface="MS PGothic"/>
              </a:rPr>
              <a:t>Percent Change in Wealth Per Capit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Rectangle 14"/>
          <p:cNvSpPr/>
          <p:nvPr/>
        </p:nvSpPr>
        <p:spPr>
          <a:xfrm>
            <a:off x="12520440" y="0"/>
            <a:ext cx="3733920" cy="9144000"/>
          </a:xfrm>
          <a:prstGeom prst="rect">
            <a:avLst/>
          </a:prstGeom>
          <a:solidFill>
            <a:srgbClr val="398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AutoShape 15"/>
          <p:cNvSpPr/>
          <p:nvPr/>
        </p:nvSpPr>
        <p:spPr>
          <a:xfrm flipH="1">
            <a:off x="10072800" y="-36360"/>
            <a:ext cx="2489040" cy="9251640"/>
          </a:xfrm>
          <a:prstGeom prst="rtTriangle">
            <a:avLst/>
          </a:prstGeom>
          <a:solidFill>
            <a:srgbClr val="398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Rectangle 16"/>
          <p:cNvSpPr/>
          <p:nvPr/>
        </p:nvSpPr>
        <p:spPr>
          <a:xfrm>
            <a:off x="11747520" y="3695760"/>
            <a:ext cx="42418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Total wealth grew everywhere, but per capita wealth did no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5" name="Picture 7" descr="C:\Users\wb340460\AppData\Local\Microsoft\Windows\INetCache\Content.Word\Wealth_perCapita (002).png"/>
          <p:cNvPicPr/>
          <p:nvPr/>
        </p:nvPicPr>
        <p:blipFill>
          <a:blip r:embed="rId1"/>
          <a:srcRect l="0" t="13282" r="0" b="21952"/>
          <a:stretch/>
        </p:blipFill>
        <p:spPr>
          <a:xfrm>
            <a:off x="14400" y="1979640"/>
            <a:ext cx="10274040" cy="6480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8" descr=""/>
          <p:cNvPicPr/>
          <p:nvPr/>
        </p:nvPicPr>
        <p:blipFill>
          <a:blip r:embed="rId2"/>
          <a:srcRect l="0" t="0" r="345" b="0"/>
          <a:stretch/>
        </p:blipFill>
        <p:spPr>
          <a:xfrm>
            <a:off x="1898640" y="8010360"/>
            <a:ext cx="6684840" cy="44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7" name="Object 1"/>
          <p:cNvGraphicFramePr/>
          <p:nvPr/>
        </p:nvGraphicFramePr>
        <p:xfrm>
          <a:off x="5283360" y="2908440"/>
          <a:ext cx="533376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3360" y="2908440"/>
                    <a:ext cx="53337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Object 2"/>
          <p:cNvGraphicFramePr/>
          <p:nvPr/>
        </p:nvGraphicFramePr>
        <p:xfrm>
          <a:off x="10337760" y="2908440"/>
          <a:ext cx="2895480" cy="495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37760" y="2908440"/>
                    <a:ext cx="28954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Object 3"/>
          <p:cNvGraphicFramePr/>
          <p:nvPr/>
        </p:nvGraphicFramePr>
        <p:xfrm>
          <a:off x="12903120" y="2908440"/>
          <a:ext cx="2895840" cy="495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03120" y="2908440"/>
                    <a:ext cx="28958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Rectangle 4"/>
          <p:cNvSpPr/>
          <p:nvPr/>
        </p:nvSpPr>
        <p:spPr>
          <a:xfrm>
            <a:off x="0" y="0"/>
            <a:ext cx="3403440" cy="9144000"/>
          </a:xfrm>
          <a:prstGeom prst="rect">
            <a:avLst/>
          </a:prstGeom>
          <a:solidFill>
            <a:srgbClr val="da4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AutoShape 5"/>
          <p:cNvSpPr/>
          <p:nvPr/>
        </p:nvSpPr>
        <p:spPr>
          <a:xfrm flipH="1" rot="10800000">
            <a:off x="3389400" y="0"/>
            <a:ext cx="2590920" cy="9144000"/>
          </a:xfrm>
          <a:prstGeom prst="rtTriangle">
            <a:avLst/>
          </a:prstGeom>
          <a:solidFill>
            <a:srgbClr val="da4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809640" y="1206360"/>
            <a:ext cx="412740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The composition of wealth fundamentally changes with economic developmen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7578720" y="1238400"/>
            <a:ext cx="8128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76d"/>
                </a:solidFill>
                <a:latin typeface="Gotham Medium"/>
                <a:ea typeface="MS PGothic"/>
              </a:rPr>
              <a:t>Percent Shares of Wealth by Asset Ty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Object 1"/>
          <p:cNvGraphicFramePr/>
          <p:nvPr/>
        </p:nvGraphicFramePr>
        <p:xfrm>
          <a:off x="711360" y="1994040"/>
          <a:ext cx="9016920" cy="646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994040"/>
                    <a:ext cx="901692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Rectangle 2"/>
          <p:cNvSpPr/>
          <p:nvPr/>
        </p:nvSpPr>
        <p:spPr>
          <a:xfrm>
            <a:off x="12179160" y="0"/>
            <a:ext cx="4077000" cy="9144000"/>
          </a:xfrm>
          <a:prstGeom prst="rect">
            <a:avLst/>
          </a:prstGeom>
          <a:solidFill>
            <a:srgbClr val="398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AutoShape 3"/>
          <p:cNvSpPr/>
          <p:nvPr/>
        </p:nvSpPr>
        <p:spPr>
          <a:xfrm flipH="1">
            <a:off x="9640080" y="0"/>
            <a:ext cx="2590920" cy="9144000"/>
          </a:xfrm>
          <a:prstGeom prst="rtTriangle">
            <a:avLst/>
          </a:prstGeom>
          <a:solidFill>
            <a:srgbClr val="398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12214080" y="673200"/>
            <a:ext cx="3835440" cy="79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... but growing an economy is not about liquidating natural capital to build other asset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Natural capital per capita is highest in upper middle income and high income OECD countri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555480" y="679320"/>
            <a:ext cx="9664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76d"/>
                </a:solidFill>
                <a:latin typeface="Gotham Medium"/>
                <a:ea typeface="MS PGothic"/>
              </a:rPr>
              <a:t>Natural Capital: Share vs Per Capita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1775160" y="7080120"/>
            <a:ext cx="10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Low income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3389400" y="7048440"/>
            <a:ext cx="15620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Lower Middle income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5092560" y="7042320"/>
            <a:ext cx="15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Upper Middle income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9"/>
          <p:cNvSpPr/>
          <p:nvPr/>
        </p:nvSpPr>
        <p:spPr>
          <a:xfrm>
            <a:off x="6934320" y="7042320"/>
            <a:ext cx="15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High income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OECD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1"/>
          <p:cNvSpPr/>
          <p:nvPr/>
        </p:nvSpPr>
        <p:spPr>
          <a:xfrm>
            <a:off x="-139680" y="0"/>
            <a:ext cx="3495600" cy="9144000"/>
          </a:xfrm>
          <a:prstGeom prst="rect">
            <a:avLst/>
          </a:prstGeom>
          <a:solidFill>
            <a:srgbClr val="da4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AutoShape 2"/>
          <p:cNvSpPr/>
          <p:nvPr/>
        </p:nvSpPr>
        <p:spPr>
          <a:xfrm flipH="1" rot="10800000">
            <a:off x="3303360" y="0"/>
            <a:ext cx="2590560" cy="9144000"/>
          </a:xfrm>
          <a:prstGeom prst="rtTriangle">
            <a:avLst/>
          </a:prstGeom>
          <a:solidFill>
            <a:srgbClr val="da4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11299680" y="2876400"/>
            <a:ext cx="48517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... but growing an economy is not about liquidating natural capital to build other asset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428760" y="1555920"/>
            <a:ext cx="4127400" cy="38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Agricultural land, fossil fuels and minerals grew the most; forests grew just enough to maintain the per capita valu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5699160" y="1542960"/>
            <a:ext cx="104392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76d"/>
                </a:solidFill>
                <a:latin typeface="Gotham Medium"/>
                <a:ea typeface="MS PGothic"/>
              </a:rPr>
              <a:t>Value of Natural Capital Per Person, 1995 to 2014 </a:t>
            </a:r>
            <a:r>
              <a:rPr b="0" lang="en-US" sz="3000" spc="-1" strike="noStrike">
                <a:solidFill>
                  <a:srgbClr val="15376d"/>
                </a:solidFill>
                <a:latin typeface="Gotham Book"/>
                <a:ea typeface="MS PGothic"/>
              </a:rPr>
              <a:t>(2014 US$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12" name="Object 6"/>
          <p:cNvGraphicFramePr/>
          <p:nvPr/>
        </p:nvGraphicFramePr>
        <p:xfrm>
          <a:off x="5334120" y="2819520"/>
          <a:ext cx="10248840" cy="58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819520"/>
                    <a:ext cx="10248840" cy="58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san E. Pleming</dc:creator>
  <dc:description/>
  <cp:keywords/>
  <dc:language>en-US</dc:language>
  <cp:lastModifiedBy>Glenn-Marie Lange</cp:lastModifiedBy>
  <cp:lastPrinted>2018-02-05T14:47:05Z</cp:lastPrinted>
  <dcterms:modified xsi:type="dcterms:W3CDTF">2018-02-06T23:05:33Z</dcterms:modified>
  <cp:revision>37</cp:revision>
  <dc:subject/>
  <dc:title>PowerPoint Presentation</dc:title>
</cp:coreProperties>
</file>